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6.wmf" ContentType="image/x-wmf"/>
  <Override PartName="/ppt/media/chimes.wav" ContentType="audio/x-wav"/>
  <Override PartName="/ppt/media/image7.jpeg" ContentType="image/jpeg"/>
  <Override PartName="/ppt/media/image5.wmf" ContentType="image/x-wmf"/>
  <Override PartName="/ppt/media/applause.wav" ContentType="audio/x-wav"/>
  <Override PartName="/ppt/media/image10.png" ContentType="image/png"/>
  <Override PartName="/ppt/media/image9.png" ContentType="image/png"/>
  <Override PartName="/ppt/media/image8.wmf" ContentType="image/x-wmf"/>
  <Override PartName="/ppt/media/projctor.wav" ContentType="audio/x-wav"/>
  <Override PartName="/ppt/media/driveby.wav" ContentType="audio/x-wav"/>
  <Override PartName="/ppt/media/whoosh.wav" ContentType="audio/x-wav"/>
  <Override PartName="/ppt/media/camera.wav" ContentType="audio/x-wav"/>
  <Override PartName="/ppt/media/explode.wav" ContentType="audio/x-wav"/>
  <Override PartName="/ppt/media/image1.png" ContentType="image/png"/>
  <Override PartName="/ppt/media/carbrake.wav" ContentType="audio/x-wav"/>
  <Override PartName="/ppt/media/image2.jpeg" ContentType="image/jpeg"/>
  <Override PartName="/ppt/media/image3.wmf" ContentType="image/x-wmf"/>
  <Override PartName="/ppt/media/drumroll.wav" ContentType="audio/x-wav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2E5D-0412-453D-81E1-69F196219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77EE-B144-4536-9139-D87AAC295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EC66-C392-448E-A005-BDF64C5FE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C939-F463-4B5C-9AC0-F2CCC8928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E470F-8764-401E-AEF7-063B95160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F5A8C-13DB-485F-8ED2-B8F1C9302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05B53-EA9F-459E-B090-800843321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62C98-D5A8-4223-9AFE-277130CF1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1DDA1-5C1A-4BFF-8E09-241666816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62327-0BC1-48A0-9D72-90AB3914C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1B3F5-17DC-4C6C-971C-7EB002525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7CF6-309D-4EDE-9A8F-7EE4F727B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BC25B-D400-4F4E-958E-833FA77A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96FAC-4D61-4429-8C95-AAD7251D3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70226-68A3-4D54-9F97-A83AEFCDD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C8B47-E070-4B5E-9252-AB6A6A2C0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1B176-EC44-4382-8CF6-774DABA15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6A6F-B1E0-4258-BB82-00F63E041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EBA7-1ADE-40B6-96F7-49F3C23A7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38A5-38E4-4977-85B9-439D835AD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0FF3-7942-46E2-91D6-30B5AE19C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C1F2-D65D-4696-8A35-DF15EA89D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464C-F4E8-49BB-A68C-1C8CD00F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98F2-1FB9-4CAD-B141-5F6E433D1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C9445-591A-49F3-9BB3-1086D339A9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31712-2C47-4DEF-96B0-A57C85BCB4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faculty.valenciacc.edu/ckimball/papers/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explode.wav"/><Relationship Id="rId3" Type="http://schemas.openxmlformats.org/officeDocument/2006/relationships/audio" Target="../media/carbrake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driveby.wav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explode.wav" TargetMode="External"/><Relationship Id="rId2" Type="http://schemas.microsoft.com/office/2007/relationships/media" Target="file:///tmp/home/.config/libreoffice/4/user/gallery/explode.wav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Introduction to PowerPoin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I’m done teaching PowerPoint, you should be able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2619360"/>
            <a:ext cx="7356600" cy="32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other PowerPoint presentation by Charles Kimb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view more like it, visit the </a:t>
            </a:r>
            <a:r>
              <a:rPr b="0" lang="en-US" sz="28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Technology For Educators HQ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657600" y="5335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the PowerPoint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ve and close a presen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an existing presen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 help from the Office Assist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267080" y="2346480"/>
            <a:ext cx="44960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reate a Tit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a bulleted li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Hey, that’s what this is, isn’t it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066680" y="175248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nt one or more sli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itch from one view to another (that’s what these controls are for!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122120" y="436320"/>
            <a:ext cx="7508520" cy="10314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an Autoshape with text to a slide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951440" y="1828800"/>
            <a:ext cx="3735360" cy="39625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 flipH="1">
            <a:off x="1523520" y="4114800"/>
            <a:ext cx="2133720" cy="1828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reate a chart . . 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762120" y="1752480"/>
          <a:ext cx="8001000" cy="449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752480"/>
                    <a:ext cx="800100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And turn it into another type of chart.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069920" y="1760400"/>
          <a:ext cx="7589880" cy="444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9920" y="1760400"/>
                    <a:ext cx="7589880" cy="444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Insert clip a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Apply a templ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Change the colors of your sli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Add some no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Run a slide sh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951440" y="1805040"/>
            <a:ext cx="3735360" cy="4008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For extra credit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transition or build eff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sound eff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828800" y="2666880"/>
            <a:ext cx="647712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Insert WordArt.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>
    <p:checker dir="horz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hat’s All Folks!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16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1" dur="630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16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7T14:25:42Z</dcterms:created>
  <dc:creator>Charles Kimball</dc:creator>
  <dc:description/>
  <dc:language>en-US</dc:language>
  <cp:lastModifiedBy>Charles Kimball</cp:lastModifiedBy>
  <dcterms:modified xsi:type="dcterms:W3CDTF">2004-10-15T00:55:47Z</dcterms:modified>
  <cp:revision>9</cp:revision>
  <dc:subject/>
  <dc:title>Introduction to PowerPoint</dc:title>
</cp:coreProperties>
</file>