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366-32CC-48DF-900C-F424781C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680" y="413064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94F-9EC1-4305-8AEB-2F2F3710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67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E57-28F8-4AC4-90F4-0EB4715F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54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6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254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B2C-9324-4E77-8F69-E99E81D5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0C8E-695D-4AF2-BE35-8E405950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37F7-499E-4E52-A142-F78C9B08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E5EF-3FEB-4F22-8071-07799BCC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E3FC-4DFC-4CB3-BEC2-B4976ED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3041-7FE7-499C-9E65-A3E5787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6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140B-9A7D-4F98-BE3D-F2208F47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160C-0E12-48DC-93A1-C37724EC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C4E-4DAC-4E97-A467-463E134D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67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C1B3-6EFA-401D-A012-BD64C513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28F-2018-4B32-A02C-77CFEF5C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9680" y="413064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4C8F-FBA1-4C61-A41B-679AC2E0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67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EA07-A31D-489A-B978-CA4991B5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54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096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4254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372E-43E1-46CF-8AD8-32A2D943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D54-2F59-413A-82FD-37C75CEA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73B-870F-4873-A483-CD8D65BF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5DB-A66E-4DEF-A323-17011261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6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C8B-C6D3-4D2E-A015-34E045AF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F16-9D2A-469D-9F19-158F6F28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67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BE5-4692-423A-8015-08B07532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AB6-CF97-466C-BB19-502C2B0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628640" cy="4314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3300"/>
                </a:solidFill>
                <a:uFillTx/>
                <a:latin typeface="Arial"/>
              </a:rPr>
              <a:t>Click to edit the title text format</a:t>
            </a: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901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901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909-B83F-4A5C-A689-3F6FF61C3F7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628640" cy="4314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5640" y="1099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3300"/>
                </a:solidFill>
                <a:uFillTx/>
                <a:latin typeface="Arial"/>
              </a:rPr>
              <a:t>Click to edit the title text format</a:t>
            </a: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9EF1-A414-4473-90F0-524836D9CC9E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anhedrin.org/en/index.php/The_Re-established_Jewish_Sanhedrin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mpleinstitute.org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mplemountfaithful.org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dsholymountain.org/English/index.aspx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arunyahya.com/" TargetMode="External"/><Relationship Id="rId2" Type="http://schemas.openxmlformats.org/officeDocument/2006/relationships/hyperlink" Target="http://www.harunyahya.com/" TargetMode="External"/><Relationship Id="rId3" Type="http://schemas.openxmlformats.org/officeDocument/2006/relationships/hyperlink" Target="http://www.harunyahya.com/" TargetMode="External"/><Relationship Id="rId4" Type="http://schemas.openxmlformats.org/officeDocument/2006/relationships/hyperlink" Target="http://www.harunyahya.com/" TargetMode="External"/><Relationship Id="rId5" Type="http://schemas.openxmlformats.org/officeDocument/2006/relationships/hyperlink" Target="http://www.harunyahya.com/" TargetMode="External"/><Relationship Id="rId6" Type="http://schemas.openxmlformats.org/officeDocument/2006/relationships/hyperlink" Target="http://www.harunyahya.com/" TargetMode="External"/><Relationship Id="rId7" Type="http://schemas.openxmlformats.org/officeDocument/2006/relationships/hyperlink" Target="http://www.harunyahya.com/" TargetMode="External"/><Relationship Id="rId8" Type="http://schemas.openxmlformats.org/officeDocument/2006/relationships/hyperlink" Target="http://www.harunyahya.com/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3300"/>
                </a:solidFill>
                <a:uFillTx/>
                <a:latin typeface="Arial"/>
              </a:rPr>
              <a:t>The Temple Mount</a:t>
            </a: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ar Habay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 Haram Al Shari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TheSanhedrin.org</a:t>
            </a:r>
            <a:endParaRPr b="1" lang="en-US" sz="48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f the authorities would give permission to build the Temple, we are obligated to build it; as it is explained in the Midrash that during the days of Rabbi Yehoshua ben Chaninah permission was granted, and they began to build it."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228600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TempleInstitute.org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655344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Templemountfaithful.org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09680" y="1855800"/>
            <a:ext cx="6553440" cy="436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663300"/>
                </a:solidFill>
                <a:uFillTx/>
                <a:latin typeface="Arial"/>
              </a:rPr>
              <a:t>What is still needed to build the Temple?</a:t>
            </a:r>
            <a:endParaRPr b="1" lang="en-US" sz="48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rst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09680" y="533160"/>
            <a:ext cx="6553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a red heifer (Numbers 19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609588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680" y="762120"/>
            <a:ext cx="6553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of all, there needs to be agreement between Jews, Christians and Moslems, in order to build the Temple without starting a wa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re such an ecumenical movement to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so, we are close to seeing it happe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What makes the Temple Mount special?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bout half the human race, it is the holiest place in the world, and the center of God’s activ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raham offered Isaac he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ewish Temples were he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lems believe Mohammed visited he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In 1967, Israel captured the Temple Mount.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a few days later, Moshe Dayan gave it back to the Moslem religious authority, the Waq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54864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Since the 1990s, the Palestinians have restricted who can go on the Temple Mount.</a:t>
            </a:r>
            <a:endParaRPr b="1" lang="en-US" sz="32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09680" y="19807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had no trouble visiting the Dome of the Rock and the Al Aqsa Mosque in 197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hen Ariel Sharon went there in 2000, he did not enter either mosque, but it became the excuse to launch the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ifad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cent years, the Palestinians have dug all the way to the bedrock, built at least two new mosques, and thrown away dirt containing artifacts from th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m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The Bible speaks of an “Abomination of Desolation” happening in the Temple.</a:t>
            </a:r>
            <a:endParaRPr b="1" lang="en-US" sz="32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680" y="2437920"/>
            <a:ext cx="6553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ppened in 167 B.C., when Antiochus Epiphanes put an idol of Zeus in the Temple and sacrificed a pig on the alt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t happening today, as long as there are mosques on the s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the Antichrist do it again, in the middle of the Tribulation?  If so, does the Temple need to be rebuilt before the Tribulation begi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990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abbi Shlomo Goren (1917-94) wrote that five things must happen before the Messiah comes:</a:t>
            </a:r>
            <a:endParaRPr b="1" lang="en-US" sz="2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3720" y="228564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toration of the state of Isra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stablishment of a Jewish govern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gathering of enough Jews from the Diaspora to create a Jewish majority in the la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toration of the Sanhedr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building of the Te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nother rabbi, Shlomo Chaim Hacohen Aviner, explained in 1999 why the Temple Mount is so important:</a:t>
            </a:r>
            <a:endParaRPr b="1" lang="en-US" sz="2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ll a matter of sovereignty. He who controls the Temple Mount, controls Jerusalem. And he who controls Jerusalem, controls the land of Israel.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wants to rebuild the Temple the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Godsholymountain.org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62320" y="1797120"/>
            <a:ext cx="5991120" cy="4298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Adnan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2"/>
              </a:rPr>
              <a:t> 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3"/>
              </a:rPr>
              <a:t>Oktar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4"/>
              </a:rPr>
              <a:t>, also called 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5"/>
              </a:rPr>
              <a:t>Harun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6"/>
              </a:rPr>
              <a:t> 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7"/>
              </a:rPr>
              <a:t>Yahya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8"/>
              </a:rPr>
              <a:t>.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3809880" y="1981080"/>
            <a:ext cx="317664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5:32:53Z</dcterms:created>
  <dc:creator>Charles Kimball</dc:creator>
  <dc:description>For more PowerPoint based Sunday School and Sermon material visit www.eBibleTeacher.com</dc:description>
  <cp:keywords>scroll old testament bible</cp:keywords>
  <dc:language>en-US</dc:language>
  <cp:lastModifiedBy>Charles Kimball</cp:lastModifiedBy>
  <dcterms:modified xsi:type="dcterms:W3CDTF">2011-02-18T19:39:20Z</dcterms:modified>
  <cp:revision>6</cp:revision>
  <dc:subject>template</dc:subject>
  <dc:title>Rabbi Shlomo Goren (1917-94) wrote that five things must happen before the Messiah comes:</dc:title>
</cp:coreProperties>
</file>