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suction.wav" ContentType="audio/x-wav"/>
  <Override PartName="/ppt/media/image2.png" ContentType="image/png"/>
  <Override PartName="/ppt/media/applause.wav" ContentType="audio/x-wav"/>
  <Override PartName="/ppt/media/GOTMAIL.WAV" ContentType="audio/x-wav"/>
  <Override PartName="/ppt/media/Yeargh.wav" ContentType="audio/x-wav"/>
  <Override PartName="/ppt/media/explode.wav" ContentType="audio/x-wav"/>
  <Override PartName="/ppt/media/push.wav" ContentType="audio/x-wav"/>
  <Override PartName="/ppt/media/RimShot.wav" ContentType="audio/x-wav"/>
  <Override PartName="/ppt/media/GOTSPAM.WAV" ContentType="audio/x-wav"/>
  <Override PartName="/ppt/media/DAFACTS.WAV" ContentType="audio/x-wav"/>
  <Override PartName="/ppt/media/SHIPBUMP.WAV" ContentType="audio/x-wav"/>
  <Override PartName="/ppt/media/image1.png" ContentType="image/png"/>
  <Override PartName="/ppt/media/whoosh.wav" ContentType="audio/x-wav"/>
  <Override PartName="/ppt/media/image5.png" ContentType="image/png"/>
  <Override PartName="/ppt/media/image3.png" ContentType="image/png"/>
  <Override PartName="/ppt/media/image4.png" ContentType="image/png"/>
  <Override PartName="/ppt/media/BARF.WAV" ContentType="audio/x-wav"/>
  <Override PartName="/ppt/media/coin.wav" ContentType="audio/x-wav"/>
  <Override PartName="/ppt/media/bomb.wav" ContentType="audio/x-wav"/>
  <Override PartName="/ppt/media/candotha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A294-AEA8-4D61-83A3-133B4534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EAC0-9484-46F0-B90C-2357F988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F77F-C5A9-4BF3-BD38-AA412059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5C12-6EE2-4E98-BB77-FD738977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167C-7D0E-4078-86CC-A19E9272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DDDE-B476-4C5B-9577-97AB21DB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FC7B-35F0-4943-B10C-1C812ECA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4157-835A-44C6-A1BD-3178615E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DE50-6456-4DF0-A29F-A90939EB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5E9F-C7FD-4575-98A6-D44819BE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BAA9-71A6-4B94-B24C-952A0791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383F-0BBC-491E-A085-2D4B0660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FD03-DAD4-418C-9480-7EE8C562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0F0B-7284-4FC9-91A9-F2CA92C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E55D-3C37-4709-90DA-8F4183AF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0115-FBA8-4CAF-A948-7ACC8268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AF8D-D5A0-451B-A4E7-C09275CE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D479-4608-4C27-A06A-E96F0827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4E3C-6DEB-4984-8DCB-7EF41ED5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835A-377C-4E13-896E-1FE4A1E4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A59B-CF6E-4018-9F36-29B3E393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141A-6785-4CE4-A59E-FC0628E0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2635-3FA8-4951-BCF8-86C41B11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397E-3933-46DF-A11B-47F2EBA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8552-2A52-4E92-9354-81E163139A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31BA-BEBB-41F9-B7F1-AACB83CBB4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ARF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GOTSPAM.WAV"/><Relationship Id="rId4" Type="http://schemas.openxmlformats.org/officeDocument/2006/relationships/audio" Target="../media/SHIPBUMP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ndothat.wav"/><Relationship Id="rId3" Type="http://schemas.openxmlformats.org/officeDocument/2006/relationships/audio" Target="../media/Yeargh.wav"/><Relationship Id="rId4" Type="http://schemas.openxmlformats.org/officeDocument/2006/relationships/audio" Target="../media/DAFACTS.WAV"/><Relationship Id="rId5" Type="http://schemas.openxmlformats.org/officeDocument/2006/relationships/audio" Target="../media/RimShot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RimShot.wav"/><Relationship Id="rId4" Type="http://schemas.openxmlformats.org/officeDocument/2006/relationships/audio" Target="../media/RimShot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faculty.valenciacc.edu/ckimball/papers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GOTMAIL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nternet Mileston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y Charles Kimball, EME204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graduate students at Duke University, Jim Ellis &amp; Tom Truscott, create USENET, the oldest bulletin board system still in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86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Science Foundation establishes NSFNET, a network for schools, government offices, military bases and research laboratories.  Top speed is 56Kb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8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ow Compuserve has 500,000 users.  Together with MCI, it launches the first commercial e-mail 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 Berners-Lee, a scientist at the European Laboratory for Particle Physics (CERN) in Switzerland, creates and launches the World Wide We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Online opens its private e-mail service to the Internet.  Within a few years AOL becomes the largest Internet service provider (ISP), and even buys the one it replaced, Compuse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Andreessen invents Mosaic, the first browser that can view graph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Filo and Jerry Yang, two graduate students at Stanford, create Yahoo!, the first search eng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Andreessen creates Netscape, the oldest browser still in use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lso 199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unsolicited commercial ad (spam) appears in Usenet newsgroups -- an ad for immigration services from the legal firm Canter &amp; Siegel.  By the end of the decade, spammers ruin Usenet as a useful communications platform, by stuffing the groups with countless unwanted advertis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commerce is born with the launching of Amazon.com and eBay.  Today they are the most successful companies on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6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 launches Internet Explorer.  Two years later it replaces Netscape as the most popular brow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98-199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st years for the high-tech industry.  Stock in those companies is ridiculously overpri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gle is launched in 1998.  A year later it becomes the most popular search eng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es compete to build the most popular portal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shopping becomes big business.  Toys-R-Us gets so many Christmas orders for 1999 that it can’t deliver them on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uly 194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nevar Bush, the director of the Office of Scientific Research &amp; Development, writes an articl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Atlantic Month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a system of interconnected information access (“As We May Think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eaded Y2K bug fails to destroy computers and civi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 Justice Department’s anti-trust suit against Microsoft causes the whole high-tech industry to go bu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dot-coms advertise at the Superbowl.  A year later, only 7 of them are still in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OL buys Time-Warner in one of the largest corporate mergers ever.  Over the next year, however, the new mega-corporation loses nearly $100 bill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of “blogs” (weblogs, online diari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m now makes up more than 50% of all e-mail (Boo!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Explorer peaks, with 96% of all people on the Internet using it.  Afterwards it suffers from various problems, especially hackers and viruses, caused by old soft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OTSP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HIPBU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2004 presidential election is dramatically affected by the “New Media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ard Dean raises most of his money on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ve online journals like The Drudge Report and Newsm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sites like Moveon.org, and forums like FreeRepublic.c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gs like Instapund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ndoth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ar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FAC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yware and “phishing” become greater threats to users than viruses and sp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.com is now the most popular page on the Internet, allowing Google to compete with Microsoft and A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2555640"/>
            <a:ext cx="794556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PowerPoint presentation by Charles Kimb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view more like it, visit the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Technology For Educators HQ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5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government establishes the Advanced Research Projects Agency (ARPA) to promote advances in science and technology.  This is in response to the Soviet Union’s 1957 launch of Sputnik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62, 196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als are made at ARPA to build a computer network, for defensive purposes, but not until 1967 does ARPA agree to do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6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PANet is launched, with four nodes (connection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C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California at Santa Barb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Ut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64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6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serve is founded as a time-sharing system, allowing various people to use an insurance company’s mainframe compu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79 CompuServe began offering technical support, e-mail, and electronic discussion groups to personal computer users with a mod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y Tomlinson invents the first two e-mail programs for ARPAN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DM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OTMAI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PANet gets its first international conne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College of Lon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wegian Royal Radar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nce Cerf invents TCP/IP, the system for transmitting data across the Internet that is still used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8:28:34Z</dcterms:created>
  <dc:creator>Charles Kimball</dc:creator>
  <dc:description/>
  <dc:language>en-US</dc:language>
  <cp:lastModifiedBy>Charles Kimball</cp:lastModifiedBy>
  <dcterms:modified xsi:type="dcterms:W3CDTF">2005-08-03T15:04:06Z</dcterms:modified>
  <cp:revision>20</cp:revision>
  <dc:subject/>
  <dc:title>Milestones in the Int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