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9.wmf" ContentType="image/x-wmf"/>
  <Override PartName="/ppt/media/gunshot.wav" ContentType="audio/x-wav"/>
  <Override PartName="/ppt/media/image11.wmf" ContentType="image/x-wmf"/>
  <Override PartName="/ppt/media/image3.png" ContentType="image/png"/>
  <Override PartName="/ppt/media/image12.wmf" ContentType="image/x-wmf"/>
  <Override PartName="/ppt/media/image4.png" ContentType="image/png"/>
  <Override PartName="/ppt/media/type.wav" ContentType="audio/x-wav"/>
  <Override PartName="/ppt/media/SHIPBUMP.WAV" ContentType="audio/x-wav"/>
  <Override PartName="/ppt/media/YES.WAV" ContentType="audio/x-wav"/>
  <Override PartName="/ppt/media/image6.wmf" ContentType="image/x-wmf"/>
  <Override PartName="/ppt/media/image10.gif" ContentType="image/gif"/>
  <Override PartName="/ppt/media/image8.wmf" ContentType="image/x-wmf"/>
  <Override PartName="/ppt/media/hammer.wav" ContentType="audio/x-wav"/>
  <Override PartName="/ppt/media/image20.png" ContentType="image/png"/>
  <Override PartName="/ppt/media/4BUZZ.WAV" ContentType="audio/x-wav"/>
  <Override PartName="/ppt/media/image7.wmf" ContentType="image/x-wmf"/>
  <Override PartName="/ppt/media/YELLING.WAV" ContentType="audio/x-wav"/>
  <Override PartName="/ppt/media/image5.png" ContentType="image/png"/>
  <Override PartName="/ppt/media/image13.wmf" ContentType="image/x-wmf"/>
  <Override PartName="/ppt/media/image1.jpeg" ContentType="image/jpeg"/>
  <Override PartName="/ppt/media/image15.wmf" ContentType="image/x-wmf"/>
  <Override PartName="/ppt/media/carbrake.wav" ContentType="audio/x-wav"/>
  <Override PartName="/ppt/media/image16.wmf" ContentType="image/x-wmf"/>
  <Override PartName="/ppt/media/image2.png" ContentType="image/png"/>
  <Override PartName="/ppt/media/image9.gif" ContentType="image/gif"/>
  <Override PartName="/ppt/media/chimes.wav" ContentType="audio/x-wav"/>
  <Override PartName="/ppt/media/IGOR.WAV" ContentType="audio/x-wav"/>
  <Override PartName="/ppt/media/image14.wmf" ContentType="image/x-wmf"/>
  <Override PartName="/ppt/media/image17.wmf" ContentType="image/x-wmf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924-F34F-4AE1-88B9-670522CC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21B-5CAE-4FDA-8CD8-CA9B467A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16E-53D5-4B01-A68E-79448E68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B05-6193-4386-8F11-3258A444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9E66-7DFC-43AC-B4C1-387C5736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C98D-A0F0-4C08-8865-65B8A9DB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215A-491D-4609-94F5-501FBED8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821B-CC3C-4F48-9EA4-B7F07A9D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A9B4-1E3D-4231-8AC9-29C2DD51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0D2E-1201-480F-9957-92E040B5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F966-CF6F-406F-BCD3-7D9C217D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CD5-0198-4E66-9906-E0595480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BC83-974E-4A55-BFD7-F8C3B8B1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073A-CDA2-4674-BC1A-D02B010F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7658-6EE9-4B22-B6E5-F7297D57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A9CB-454C-44F7-A9C7-4DF1ACC5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30DA-7EDE-4E06-A420-560B384E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2B2C-64D7-49B4-8B5C-DF4349EC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48D7-7572-444E-AE0C-6D7F3EBB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A74-E7CE-41B7-8F34-45866B61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E6F7-0D79-457E-9513-2A5F4B86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3BB4-C7D4-4E23-818C-64A8A1AA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110-E35A-4E15-8D5D-5ACB8DF1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7349-41A7-4080-92D0-B83F81C9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53C5-CD1D-41BE-BF88-E72CA44CDED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1511-FBD2-4E84-9351-4FF71C17B1BA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audio" Target="../media/YES.WAV"/><Relationship Id="rId4" Type="http://schemas.openxmlformats.org/officeDocument/2006/relationships/audio" Target="../media/IGOR.WAV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faculty.valenciacc.edu/ckimball/papers/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4BUZZ.WAV"/><Relationship Id="rId2" Type="http://schemas.openxmlformats.org/officeDocument/2006/relationships/audio" Target="../media/4BUZZ.WAV"/><Relationship Id="rId3" Type="http://schemas.openxmlformats.org/officeDocument/2006/relationships/audio" Target="../media/4BUZZ.WAV"/><Relationship Id="rId4" Type="http://schemas.openxmlformats.org/officeDocument/2006/relationships/audio" Target="../media/4BUZZ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CREAM.WAV" TargetMode="External"/><Relationship Id="rId2" Type="http://schemas.microsoft.com/office/2007/relationships/media" Target="file:///tmp/home/.config/libreoffice/4/user/gallery/SCREAM.WAV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audio" Target="../media/SHIPBUMP.WAV"/><Relationship Id="rId4" Type="http://schemas.openxmlformats.org/officeDocument/2006/relationships/audio" Target="../media/SHIPBUMP.WAV"/><Relationship Id="rId5" Type="http://schemas.openxmlformats.org/officeDocument/2006/relationships/audio" Target="../media/SHIPBUMP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YELLING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Netiquette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From the words “net” and “etiquette,” get it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ote only the part of a message you’re responding t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7960" y="1752480"/>
            <a:ext cx="3809880" cy="4191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90920" y="2643120"/>
            <a:ext cx="397332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Keep those signature files short, too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419112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 nice to the newbi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Remember when you were one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366408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on’t flirt in the chat room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You may think you’re talking with this . . 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When you’re really talking with this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4495680" cy="4159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3554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Y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IG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n’t flood the chat room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DKLQW00R23UJ59-AGFNF;RT3-Q3-VMAFJA;OORTU5-1-85ZVNM\ZJKC[AIT=Q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59BN03402IURUIVB-0WS936N7-00ZX?/?/!!!!!!!!!!!!!!!!!dfOHIEN5902860NAT88W77*A*774Z\4G4W74YQ++7TYA=S9S==9HXBMMait=1969=sj\[fiqQ=59WORIEITYUABUTTHEADBUTTHEADBUTTHEAD!!!!!!!!!!!!!!!!!!!!!!!!!!!!!!!!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spect intellectual property right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105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ver,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v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do these on company tim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ornography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Online gam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3352680" cy="1446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867280" y="3733920"/>
            <a:ext cx="1913040" cy="2019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72200" y="3886200"/>
            <a:ext cx="1630440" cy="1650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447920" y="3886200"/>
            <a:ext cx="16300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sider using a spellcheck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all this is too much to remember, go by the golden rul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2984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2635200"/>
            <a:ext cx="7504200" cy="33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Another PowerPoint presentation by Charles Kimball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o view more like it, visit the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ahoma"/>
                <a:hlinkClick r:id="rId1"/>
              </a:rPr>
              <a:t>Technology For Educators HQ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657600" y="533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It took 38 years for radio to gain 50 million listener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It took 13 years for television to gain 50 million viewer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But it only took 4 years for the Internet to gain 50 million user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r that reason, the Internet is no longer the wild frontier that it was in the 1990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4BUZ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4BUZ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4BUZ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4BUZ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5335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You don’t need many rules if you are driving and nobody else is on the highway, but you do when the roads are crowded during rush hour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Likewise, the more crowded the Internet gets, the more important are guidelines for good online behavior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ere is what I have learned from my own experience.  These rules apply to e-mail, bulletin boards/forums, and chat room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n’t Spam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means n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Unsolicited Commercial E-mail (UCE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Off-Topic Messages on Bulletin Board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hain Letter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rwarding of E-mail Hoax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4114800"/>
            <a:ext cx="22352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se the subject line if you have o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248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267080" y="289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762120" y="609480"/>
            <a:ext cx="76197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DON'T USE ALL CAPS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013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nd &amp; receive e-mail attachments with car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440" y="1752480"/>
            <a:ext cx="3809880" cy="4191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Ask before sending really large attachment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nsider using a zip/unzip program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Watch out for viruses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97320" y="2895480"/>
            <a:ext cx="3272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HIPBU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HIPBU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HIPBU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fore taking part in a chat room or bulletin board discussion, learn the ru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55760" y="1752480"/>
            <a:ext cx="6432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Trolls!  This means n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952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busive, insulting behavio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Impersonation of other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Revealing real-life info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reating websites to bully classmat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yberstalkin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64240" y="1676520"/>
            <a:ext cx="3479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LL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19:10:09Z</dcterms:created>
  <dc:creator>SSL19</dc:creator>
  <dc:description/>
  <dc:language>en-US</dc:language>
  <cp:lastModifiedBy>Charles Kimball</cp:lastModifiedBy>
  <dcterms:modified xsi:type="dcterms:W3CDTF">2006-04-14T15:31:37Z</dcterms:modified>
  <cp:revision>30</cp:revision>
  <dc:subject/>
  <dc:title>Netiquette</dc:title>
</cp:coreProperties>
</file>