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OING.WAV" ContentType="audio/x-wav"/>
  <Override PartName="/ppt/media/image2.jpeg" ContentType="image/jpeg"/>
  <Override PartName="/ppt/media/cymbals.wav" ContentType="audio/x-wav"/>
  <Override PartName="/ppt/media/image3.png" ContentType="image/png"/>
  <Override PartName="/ppt/media/whoosh.wav" ContentType="audio/x-wav"/>
  <Override PartName="/ppt/media/driveby.wav" ContentType="audio/x-wav"/>
  <Override PartName="/ppt/media/voltage.wav" ContentType="audio/x-wav"/>
  <Override PartName="/ppt/media/WHIP.WAV" ContentType="audio/x-wav"/>
  <Override PartName="/ppt/media/chimes.wav" ContentType="audio/x-wav"/>
  <Override PartName="/ppt/media/Rim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555-A944-47D9-BEA1-08C7FE4B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BD9-FA72-4680-9F73-4C93109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F89-DB53-4301-9265-4E425CD3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068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0204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068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0204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3D1-5CCE-40B0-B800-D599941B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755-30D8-48D8-A80A-BE756AA8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7884-32AE-4713-8FB7-9600D45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02F-D774-4C47-80D9-0341E6FA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CC52-A82C-4DBE-8DA7-36121BE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27A0-4718-4D1F-A94E-993F89FC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533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23EF-DCA1-49F9-A70A-2994489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D179-D6F6-4E6B-AAE3-FC98386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A1E-D37D-4E09-A314-E17D53C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C606-41FF-4A20-9102-851EFED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430-E2AB-4438-A172-8D0E606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FF9-42E8-4288-B683-E7090D3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0981-4D2B-47C9-947C-30DA4A3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068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204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068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204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B91A-72F8-4B69-8F0A-19A0E8B7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BD7-D26F-46D2-A603-2E0CD10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7E9-E507-44C6-9859-A184EAD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CAD-7DB3-4618-AF07-FA7992C9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533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C68-4AB8-4B45-9283-8DF549A6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3F2-6E56-485E-8FD0-82E543C3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EDF-BD00-4DA2-950F-4F65E56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3CA-0AD4-4B3D-9A08-CB88E11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8377-EB21-43E0-B9F4-64A4FC13098D}" type="slidenum">
              <a:rPr b="0" lang="en-US" sz="14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640-0874-4180-9E08-50C8D9A30326}" type="slidenum">
              <a:rPr b="0" lang="en-US" sz="14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valenciacc.edu/ckimball/paper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ahooyoogle.com/" TargetMode="External"/><Relationship Id="rId4" Type="http://schemas.openxmlformats.org/officeDocument/2006/relationships/hyperlink" Target="http://www.soople.com/" TargetMode="External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amazon.com/exec/obidos/redirect-home/xenohistorian?tag-id=xenohistorian&amp;placement=holiday-home-btn-120x90.gif&amp;site=amazon" TargetMode="External"/><Relationship Id="rId7" Type="http://schemas.openxmlformats.org/officeDocument/2006/relationships/hyperlink" Target="http://www.a9.com/" TargetMode="External"/><Relationship Id="rId8" Type="http://schemas.openxmlformats.org/officeDocument/2006/relationships/hyperlink" Target="http://www.msn.com/" TargetMode="External"/><Relationship Id="rId9" Type="http://schemas.openxmlformats.org/officeDocument/2006/relationships/hyperlink" Target="http://www.altavista.com/" TargetMode="External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rch.excite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hyperlink" Target="http://www.alltheweb.com/" TargetMode="External"/><Relationship Id="rId5" Type="http://schemas.openxmlformats.org/officeDocument/2006/relationships/hyperlink" Target="http://www.aol.com/" TargetMode="External"/><Relationship Id="rId6" Type="http://schemas.openxmlformats.org/officeDocument/2006/relationships/hyperlink" Target="http://search.iwon.com/" TargetMode="External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arch.com/" TargetMode="External"/><Relationship Id="rId3" Type="http://schemas.openxmlformats.org/officeDocument/2006/relationships/hyperlink" Target="http://www.search.com/" TargetMode="External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IP.WAV"/><Relationship Id="rId3" Type="http://schemas.openxmlformats.org/officeDocument/2006/relationships/audio" Target="../media/WHIP.WAV"/><Relationship Id="rId4" Type="http://schemas.openxmlformats.org/officeDocument/2006/relationships/audio" Target="../media/WHIP.WAV"/><Relationship Id="rId5" Type="http://schemas.openxmlformats.org/officeDocument/2006/relationships/audio" Target="../media/WHIP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ymbals.wav"/><Relationship Id="rId3" Type="http://schemas.openxmlformats.org/officeDocument/2006/relationships/audio" Target="../media/cymbals.wav"/><Relationship Id="rId4" Type="http://schemas.openxmlformats.org/officeDocument/2006/relationships/audio" Target="../media/cymbals.wav"/><Relationship Id="rId5" Type="http://schemas.openxmlformats.org/officeDocument/2006/relationships/audio" Target="../media/cymbals.wav"/><Relationship Id="rId6" Type="http://schemas.openxmlformats.org/officeDocument/2006/relationships/audio" Target="../media/cymbals.wav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ING.WAV"/><Relationship Id="rId3" Type="http://schemas.openxmlformats.org/officeDocument/2006/relationships/audio" Target="../media/BOING.WAV"/><Relationship Id="rId4" Type="http://schemas.openxmlformats.org/officeDocument/2006/relationships/audio" Target="../media/BOING.WAV"/><Relationship Id="rId5" Type="http://schemas.openxmlformats.org/officeDocument/2006/relationships/audio" Target="../media/BOING.WAV"/><Relationship Id="rId6" Type="http://schemas.openxmlformats.org/officeDocument/2006/relationships/audio" Target="../media/BOING.WAV"/><Relationship Id="rId7" Type="http://schemas.openxmlformats.org/officeDocument/2006/relationships/audio" Target="../media/BOING.WAV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mShot.wav"/><Relationship Id="rId3" Type="http://schemas.openxmlformats.org/officeDocument/2006/relationships/audio" Target="../media/RimShot.wav"/><Relationship Id="rId4" Type="http://schemas.openxmlformats.org/officeDocument/2006/relationships/audio" Target="../media/RimShot.wav"/><Relationship Id="rId5" Type="http://schemas.openxmlformats.org/officeDocument/2006/relationships/audio" Target="../media/RimShot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arch Engine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666520"/>
            <a:ext cx="64008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view more like it, visit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chnology For Educators HQ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st, the Top Fi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647676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y als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ahoo!Yoog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** an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oo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**.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Yahoo!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maz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(includ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9.co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SN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lta Vista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4920" y="5562720"/>
            <a:ext cx="6248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me More Popular Search Engin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65530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xcite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ogpi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llTheWeb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AOL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W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 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rthlink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sk Jeeves*** (http://www.ask.com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etaCrawler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Net (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earch.co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218960" y="49525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4767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tbot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mma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ycos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that are worth us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foSpace 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Xquick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Kartoo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ukol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ooksmar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70536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Open Directory Project (DMOZ.com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Wisenut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cirus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fusion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cerocke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igablas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540972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ty Search Eng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esides the search engines already listed, there are thousands of other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st do not search the entire World Wide Web, and are called specialty search engine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me only get results from one website, or from websites devoted to one subject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thers look for research papers, MP3s, or picture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till others search databases or newsgroup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me tips for creative search engine us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 more than one search engine.  Google is great, but it can’t find everything!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 advanced search option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sider using a specialty search engine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ry entering obscure words, so you won’t get back so many result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21:12:15Z</dcterms:created>
  <dc:creator>Charles Kimball</dc:creator>
  <dc:description/>
  <dc:language>en-US</dc:language>
  <cp:lastModifiedBy>Charles Kimball</cp:lastModifiedBy>
  <dcterms:modified xsi:type="dcterms:W3CDTF">2006-04-14T21:00:31Z</dcterms:modified>
  <cp:revision>31</cp:revision>
  <dc:subject/>
  <dc:title>Search Engines!</dc:title>
</cp:coreProperties>
</file>