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ick.wav" ContentType="audio/x-wav"/>
  <Override PartName="/ppt/media/type.wav" ContentType="audio/x-wav"/>
  <Override PartName="/ppt/media/push.wav" ContentType="audio/x-wav"/>
  <Override PartName="/ppt/media/image2.jpeg" ContentType="image/jpeg"/>
  <Override PartName="/ppt/media/arrow.wav" ContentType="audio/x-wav"/>
  <Override PartName="/ppt/media/coin.wav" ContentType="audio/x-wav"/>
  <Override PartName="/ppt/media/image6.png" ContentType="image/png"/>
  <Override PartName="/ppt/media/alive.wav" ContentType="audio/x-wav"/>
  <Override PartName="/ppt/media/image4.jpeg" ContentType="image/jpeg"/>
  <Override PartName="/ppt/media/cashreg.wav" ContentType="audio/x-wav"/>
  <Override PartName="/ppt/media/image7.png" ContentType="image/png"/>
  <Override PartName="/ppt/media/image1.jpeg" ContentType="image/jpeg"/>
  <Override PartName="/ppt/media/CMPINTRO.WAV" ContentType="audio/x-wav"/>
  <Override PartName="/ppt/media/voltage.wav" ContentType="audio/x-wav"/>
  <Override PartName="/ppt/media/image5.jpeg" ContentType="image/jpeg"/>
  <Override PartName="/ppt/media/BONK.WAV" ContentType="audio/x-wav"/>
  <Override PartName="/ppt/media/image3.jpeg" ContentType="image/jpeg"/>
  <Override PartName="/ppt/media/whoosh.wav" ContentType="audio/x-wav"/>
  <Override PartName="/ppt/media/CREAK1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0017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0017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0017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2952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2952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0017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0017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0017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28600" y="40017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0000" y="40017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40017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28600" y="40017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40017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0000" y="40017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65840" y="12952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02720" y="12952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28600" y="40017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65840" y="40017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02720" y="40017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0017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0017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0017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lvl="1" marL="660960" indent="-25416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lvl="2" marL="1017000" indent="-20340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lvl="3" marL="1424160" indent="-20340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lvl="4" marL="1830960" indent="-20340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lvl="5" marL="1830960" indent="-203400">
              <a:spcBef>
                <a:spcPts val="11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lvl="6" marL="1830960" indent="-203400">
              <a:spcBef>
                <a:spcPts val="11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1" marL="42048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Agency FB"/>
            </a:endParaRPr>
          </a:p>
          <a:p>
            <a:pPr lvl="2" marL="840960" algn="ctr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3" marL="126180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4" marL="16822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5" marL="16822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6" marL="16822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alive.wav"/><Relationship Id="rId4" Type="http://schemas.openxmlformats.org/officeDocument/2006/relationships/audio" Target="../media/CREAK1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aculty.valenciacc.edu/ckimball/papers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MPINTRO.WAV"/><Relationship Id="rId3" Type="http://schemas.openxmlformats.org/officeDocument/2006/relationships/audio" Target="../media/CMPINTRO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ONK.WAV"/><Relationship Id="rId4" Type="http://schemas.openxmlformats.org/officeDocument/2006/relationships/audio" Target="../media/BONK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elphiforums.com/" TargetMode="External"/><Relationship Id="rId3" Type="http://schemas.openxmlformats.org/officeDocument/2006/relationships/hyperlink" Target="http://www.freerepublic.com/" TargetMode="External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tionalgeographic.com/" TargetMode="External"/><Relationship Id="rId3" Type="http://schemas.openxmlformats.org/officeDocument/2006/relationships/image" Target="../media/image3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gmenot.com/" TargetMode="External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ush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gency FB"/>
              </a:rPr>
              <a:t>Other Ways to Find Things Online</a:t>
            </a:r>
            <a:endParaRPr b="0" lang="en-US" sz="80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</a:rPr>
              <a:t>By Charles Kimball, EME2040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ency FB"/>
              </a:rPr>
              <a:t>The ERIC catalog.</a:t>
            </a: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ERIC (the Educational Resources Information Center), is not just a library tool anymore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marL="274320" indent="-27432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This is the place to find research papers published between 1966 and 2004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marL="274320" indent="-27432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If you’re writing a research paper, you’ll get the references you need for footnotes here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ency FB"/>
              </a:rPr>
              <a:t>Index or link sites.</a:t>
            </a: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Most websites have links to other sites the webmaster thinks you’ll find interesting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marL="277560" indent="-27756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Some websites, however, are all links!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marL="277560" indent="-27756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These can give you a lot of sources quickly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marL="277560" indent="-27756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Examples of index sites are About.com and the Virtual Library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gency FB"/>
              </a:rPr>
              <a:t>How would you like to bring back a webpage from the dead?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With “The WayBack Machine” at Archive.org, you can see what webpages looked like years ago, or view webpages that no longer exist!</a:t>
            </a:r>
            <a:endParaRPr b="0" lang="en-US" sz="4000" spc="-1" strike="noStrike">
              <a:solidFill>
                <a:srgbClr val="ffffff"/>
              </a:solidFill>
              <a:latin typeface="Agency FB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224080"/>
            <a:ext cx="426708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li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REAK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ency FB"/>
              </a:rPr>
              <a:t>Now seek, and ye shall find!</a:t>
            </a: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010280" cy="5257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1259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-360" y="2387520"/>
            <a:ext cx="838692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gency FB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gency FB"/>
            </a:endParaRPr>
          </a:p>
          <a:p>
            <a:pPr marL="332640" indent="-33264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Another PowerPoint presentation by Charles Kimball.</a:t>
            </a:r>
            <a:endParaRPr b="0" lang="en-US" sz="4000" spc="-1" strike="noStrike">
              <a:solidFill>
                <a:srgbClr val="ffffff"/>
              </a:solidFill>
              <a:latin typeface="Agency FB"/>
            </a:endParaRPr>
          </a:p>
          <a:p>
            <a:pPr marL="332640" indent="-33264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To view more like it, visit the </a:t>
            </a:r>
            <a:r>
              <a:rPr b="0" lang="en-US" sz="4000" spc="-1" strike="noStrike" u="sng">
                <a:solidFill>
                  <a:srgbClr val="ff99ff"/>
                </a:solidFill>
                <a:uFillTx/>
                <a:latin typeface="Agency FB"/>
                <a:hlinkClick r:id="rId2"/>
              </a:rPr>
              <a:t>Technology For Educators HQ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gency FB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gency FB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73392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gency FB"/>
              </a:rPr>
              <a:t>There’s more to Internet research than just using Google.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Some people think that if they can’t find something with Google, it doesn’t exist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marL="312120" indent="-31212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Search engines are great, but you will miss a lot if they are the only research tools you use in cyberspace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MPINT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MPINT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85% of people use a search engine first, when trying to find something on the Internet.</a:t>
            </a:r>
            <a:endParaRPr b="0" lang="en-US" sz="4000" spc="-1" strike="noStrike">
              <a:solidFill>
                <a:srgbClr val="ffffff"/>
              </a:solidFill>
              <a:latin typeface="Agency FB"/>
            </a:endParaRPr>
          </a:p>
          <a:p>
            <a:pPr marL="284400" indent="-28440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This presentation will show you what the other 15% use.</a:t>
            </a:r>
            <a:endParaRPr b="0" lang="en-US" sz="4000" spc="-1" strike="noStrike">
              <a:solidFill>
                <a:srgbClr val="ffffff"/>
              </a:solidFill>
              <a:latin typeface="Agency FB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N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N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ency FB"/>
              </a:rPr>
              <a:t>Online Conferences</a:t>
            </a: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Also called forums and bulletin boards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marL="288000" indent="-28800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We already looked at these in Chapter 7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marL="288000" indent="-28800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This is where to go if you want a live person to answer your questions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marL="288000" indent="-28800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Examples include </a:t>
            </a:r>
            <a:r>
              <a:rPr b="0" lang="en-US" sz="4400" spc="-1" strike="noStrike" u="sng">
                <a:solidFill>
                  <a:srgbClr val="ff99ff"/>
                </a:solidFill>
                <a:uFillTx/>
                <a:latin typeface="Agency FB"/>
                <a:hlinkClick r:id="rId2"/>
              </a:rPr>
              <a:t>Delphiforums</a:t>
            </a: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 and </a:t>
            </a:r>
            <a:r>
              <a:rPr b="0" lang="en-US" sz="4400" spc="-1" strike="noStrike" u="sng">
                <a:solidFill>
                  <a:srgbClr val="ff99ff"/>
                </a:solidFill>
                <a:uFillTx/>
                <a:latin typeface="Agency FB"/>
                <a:hlinkClick r:id="rId3"/>
              </a:rPr>
              <a:t>Free Republic</a:t>
            </a: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ency FB"/>
              </a:rPr>
              <a:t>Online periodicals</a:t>
            </a: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</a:rPr>
              <a:t>These are the websites for magazines, newspapers, and news networks.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</a:rPr>
              <a:t>Examples include </a:t>
            </a:r>
            <a:r>
              <a:rPr b="0" lang="en-US" sz="3600" spc="-1" strike="noStrike" u="sng">
                <a:solidFill>
                  <a:srgbClr val="ff99ff"/>
                </a:solidFill>
                <a:uFillTx/>
                <a:latin typeface="Agency FB"/>
                <a:hlinkClick r:id="rId2"/>
              </a:rPr>
              <a:t>National Geographic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gency FB"/>
              </a:rPr>
              <a:t>, the Orlando Sentinel, and ABC News.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</a:rPr>
              <a:t>Page 253 of the textbook has the URLs of some educational journals.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48320" y="914400"/>
            <a:ext cx="42670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ency FB"/>
              </a:rPr>
              <a:t>What to know about online periodicals</a:t>
            </a: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They stay up-to-date.  Some are updated monthly, some weekly, and some daily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marL="281160" indent="-28116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However, content varies tremendously.  Some (“brochure sites”) will only advertise what’s in the paper edition, while others give you everything that you’ll find at the newstand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ency FB"/>
              </a:rPr>
              <a:t>In addition . . .</a:t>
            </a: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Many of these sites, especially those of newspapers, will make you register with them to receive a log-in password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If you don’t want to give out personal information, try using </a:t>
            </a:r>
            <a:r>
              <a:rPr b="0" lang="en-US" sz="4400" spc="-1" strike="noStrike" u="sng">
                <a:solidFill>
                  <a:srgbClr val="ff99ff"/>
                </a:solidFill>
                <a:uFillTx/>
                <a:latin typeface="Agency FB"/>
                <a:hlinkClick r:id="rId2"/>
              </a:rPr>
              <a:t>BugMeNot.com</a:t>
            </a: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ency FB"/>
              </a:rPr>
              <a:t>Online encyclopedias and dictionaries.</a:t>
            </a: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These have everything that you’ll find in the book or CD version of those reference works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marL="253800" indent="-25380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Examples include Encarta, Britannica.com, and Dictionary.com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marL="253800" indent="-25380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You may have to pay to access some of them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marL="253800" indent="-25380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Wikipedia is the biggest encyclopedia of all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ency FB"/>
              </a:rPr>
              <a:t>Personal websites and weblogs (“blogs”)</a:t>
            </a:r>
            <a:endParaRPr b="0" lang="en-US" sz="5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Any websurfer will tell you these are great sources of information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marL="274320" indent="-27432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However, that information isn’t always reliable.  It may be biased, or out of date, or the site may be poorly designed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  <a:p>
            <a:pPr marL="274320" indent="-27432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The rubrics on pages 248 and 269 of the text will help you evaluate these sources.</a:t>
            </a:r>
            <a:endParaRPr b="0" lang="en-US" sz="44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2:21:58Z</dcterms:created>
  <dc:creator>Charles Kimball</dc:creator>
  <dc:description/>
  <dc:language>en-US</dc:language>
  <cp:lastModifiedBy>Charles Kimball</cp:lastModifiedBy>
  <dcterms:modified xsi:type="dcterms:W3CDTF">2006-04-15T16:29:11Z</dcterms:modified>
  <cp:revision>24</cp:revision>
  <dc:subject/>
  <dc:title>Other Ways to Find Things Online</dc:title>
</cp:coreProperties>
</file>