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IP.WAV" ContentType="audio/x-wav"/>
  <Override PartName="/ppt/media/image10.png" ContentType="image/png"/>
  <Override PartName="/ppt/media/breeze.wav" ContentType="audio/x-wav"/>
  <Override PartName="/ppt/media/image7.jpeg" ContentType="image/jpeg"/>
  <Override PartName="/ppt/media/camera.wav" ContentType="audio/x-wav"/>
  <Override PartName="/ppt/media/image6.png" ContentType="image/png"/>
  <Override PartName="/ppt/media/coin.wav" ContentType="audio/x-wav"/>
  <Override PartName="/ppt/media/image13.jpeg" ContentType="image/jpeg"/>
  <Override PartName="/ppt/media/image14.png" ContentType="image/png"/>
  <Override PartName="/ppt/media/push.wav" ContentType="audio/x-wav"/>
  <Override PartName="/ppt/media/CARBEEP.WAV" ContentType="audio/x-wav"/>
  <Override PartName="/ppt/media/chimes.wav" ContentType="audio/x-wav"/>
  <Override PartName="/ppt/media/cashreg.wav" ContentType="audio/x-wav"/>
  <Override PartName="/ppt/media/image12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whoosh.wav" ContentType="audio/x-wav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D62-4EBD-44DD-9B81-369CC8A8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ED9-7A0F-4C88-B38F-699DB972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B2C-D37A-4BBC-825C-879D5301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C7E-5BD3-4858-9E03-C84DE869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A2B6-8A3B-4320-97C9-EB7BA5A3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3ABD-08C3-4EC7-8F83-D0C8DE59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7480-05C0-4FBB-81B0-949FF390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4CE8-2C3D-4F95-9904-803A661E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E1AA-2A10-464D-B6EE-5959E620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3387-AB94-4B52-9824-8E56F86F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A046-54A7-4D5F-BD17-AADA6B98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3AD-E5FB-46F5-AA50-3A43B734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C797-5FEB-4DC6-A868-5A8489D2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24CB-5B18-4515-BFE6-2939981E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4D9E-DAE5-4313-A3CD-5D4E29F3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4AC1-D4C0-46C5-810E-8B229887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37A2-8070-48E5-A3E8-E4D34279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553-B667-4341-AA7F-A8DB103B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3E8-A8FC-42DB-ABB6-C295EFF9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E5F-BADA-4CCB-9E18-FA455CA0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2BC-C8FF-4F3D-B795-0F39C2EB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228-9AB1-435A-90DE-5EF62E92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C36-23BE-47CC-82C2-564B5093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482-F0EC-4E19-B483-166B9F01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4F15-4B63-4CED-9CF9-39365FE247EB}" type="slidenum"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4E50-E0AC-4D0B-A59B-01EA1E37C59C}" type="slidenum"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3.jpeg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audio" Target="../media/CARBEEP.WAV"/><Relationship Id="rId9" Type="http://schemas.openxmlformats.org/officeDocument/2006/relationships/audio" Target="../media/CARBEEP.WAV"/><Relationship Id="rId10" Type="http://schemas.openxmlformats.org/officeDocument/2006/relationships/audio" Target="../media/CARBEEP.WAV"/><Relationship Id="rId11" Type="http://schemas.openxmlformats.org/officeDocument/2006/relationships/audio" Target="../media/CARBEEP.WAV"/><Relationship Id="rId12" Type="http://schemas.openxmlformats.org/officeDocument/2006/relationships/audio" Target="../media/CARBEEP.WAV"/><Relationship Id="rId13" Type="http://schemas.openxmlformats.org/officeDocument/2006/relationships/audio" Target="../media/CARBEEP.WAV"/><Relationship Id="rId1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push.wav"/><Relationship Id="rId8" Type="http://schemas.openxmlformats.org/officeDocument/2006/relationships/audio" Target="../media/push.wav"/><Relationship Id="rId9" Type="http://schemas.openxmlformats.org/officeDocument/2006/relationships/audio" Target="../media/push.wav"/><Relationship Id="rId10" Type="http://schemas.openxmlformats.org/officeDocument/2006/relationships/audio" Target="../media/push.wav"/><Relationship Id="rId11" Type="http://schemas.openxmlformats.org/officeDocument/2006/relationships/audio" Target="../media/push.wav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faculty.valenciacc.edu/ckimball/papers/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WHIP.WAV"/><Relationship Id="rId5" Type="http://schemas.openxmlformats.org/officeDocument/2006/relationships/audio" Target="../media/WHIP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82400"/>
                </a:solidFill>
                <a:latin typeface="Times New Roman"/>
              </a:rPr>
              <a:t>A Brief History of Teaching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harles Kim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20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Even so, books were very expensive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828800"/>
            <a:ext cx="776916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verage noble might have twenty books in his library, and only the Church could afford more than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gh price was caused by the amount of work, and expensive materials; it took about 300 sheepskins to make enough parchment for one B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666880" y="1066680"/>
            <a:ext cx="419580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9b80"/>
                                      </p:to>
                                    </p:animClr>
                                    <p:animClr clrSpc="rgb">
                                      <p:cBhvr>
                                        <p:cTn id="153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9b80"/>
                                      </p:to>
                                    </p:animClr>
                                    <p:set>
                                      <p:cBhvr>
                                        <p:cTn id="154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ree inventions during the Renaissance made books easier to make, and easier to understand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3504960"/>
            <a:ext cx="7769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nting p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forms of modern languages (Italian, German, English, French and Spanis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John Amos Comeni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d in what is now the Czech Republic, 1592-16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knamed “The Incomparable Moravi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d textbooks with pictures in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010120" y="1752480"/>
            <a:ext cx="341172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18</a:t>
            </a:r>
            <a:r>
              <a:rPr b="0" lang="en-US" sz="4400" spc="-1" strike="noStrike" baseline="30000">
                <a:solidFill>
                  <a:srgbClr val="4824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&amp; 19</a:t>
            </a:r>
            <a:r>
              <a:rPr b="0" lang="en-US" sz="4400" spc="-1" strike="noStrike" baseline="30000">
                <a:solidFill>
                  <a:srgbClr val="4824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Century Innovation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ew widely used textbooks, lik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w England Prim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700s) a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cGuffey R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840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l charts (1826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(185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dergarten, developed by Friedrich Froebel (1837) and Maria Montessori (190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Early Steps in the Audiovisual Movement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museums (190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films (191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 by radio (1929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media training (1945, for the armed for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TV (195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ed instruction (195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velopments In My Lifetime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S (196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 makes the first personal computer (197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-assisted instruction (1980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-ROMs, teleconferencing, the Internet, virtual reality (1990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re’s much more on the w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2000" y="2633760"/>
            <a:ext cx="750096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PowerPoint presentation by Charles Kim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iew more like it, visit the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4"/>
              </a:rPr>
              <a:t>Technology For Educators HQ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ousands of years, methods of instruction didn’t change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act, most of the changes have taken place since 1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oldest forms of writing took many years to learn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17680" y="1766880"/>
            <a:ext cx="3097080" cy="4113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724280" y="2514600"/>
            <a:ext cx="4259520" cy="2838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09680" y="60199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ne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594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240" y="59436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ogly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And the teaching methods weren’t very friendly, either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ylonians called a teacher “the one in charge of the whi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ptians liked to say that “a boy’s ears are on his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But if you could learn in school, it was worth it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 then, less than 10 percent of the people knew how to read and wr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meant good jobs for those who grad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200560" y="2286000"/>
            <a:ext cx="29764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n the alphabet replaced hieroglyphics &amp; cuneiform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5257440"/>
            <a:ext cx="7853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learning to read was still a challenge. 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828800" y="1828800"/>
            <a:ext cx="59436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Because at this stage writing didn’t have many of the features that help us to understand it, like: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980720"/>
            <a:ext cx="776916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nct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s between the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-case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wasn’t even clear which direction the words should be rea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How quickly do you think you can read something like this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599840"/>
            <a:ext cx="776916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, most writing in medieval Europe was done in Greek or Latin, not the languages people learned as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eval monks added spaces and lower-case letters to the manuscripts they copied, once they were convinced that this didn’t waste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39:38Z</dcterms:created>
  <dc:creator>Charles Kimball</dc:creator>
  <dc:description/>
  <dc:language>en-US</dc:language>
  <cp:lastModifiedBy>Charles Kimball</cp:lastModifiedBy>
  <dcterms:modified xsi:type="dcterms:W3CDTF">2004-10-15T00:57:16Z</dcterms:modified>
  <cp:revision>27</cp:revision>
  <dc:subject/>
  <dc:title>A Brief History of Teaching</dc:title>
</cp:coreProperties>
</file>