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applause.wav" ContentType="audio/x-wav"/>
  <Override PartName="/ppt/media/image10.png" ContentType="image/png"/>
  <Override PartName="/ppt/media/breeze.wav" ContentType="audio/x-wav"/>
  <Override PartName="/ppt/media/drumroll.wav" ContentType="audio/x-wav"/>
  <Override PartName="/ppt/media/image15.png" ContentType="image/png"/>
  <Override PartName="/ppt/media/image5.png" ContentType="image/png"/>
  <Override PartName="/ppt/media/image6.png" ContentType="image/png"/>
  <Override PartName="/ppt/media/BOING!.WAV" ContentType="audio/x-wav"/>
  <Override PartName="/ppt/media/image4.png" ContentType="image/png"/>
  <Override PartName="/ppt/media/image3.png" ContentType="image/png"/>
  <Override PartName="/ppt/media/image2.png" ContentType="image/png"/>
  <Override PartName="/ppt/media/BONGO2.WAV" ContentType="audio/x-wav"/>
  <Override PartName="/ppt/media/image14.png" ContentType="image/png"/>
  <Override PartName="/ppt/media/image21.png" ContentType="image/png"/>
  <Override PartName="/ppt/media/image19.png" ContentType="image/png"/>
  <Override PartName="/ppt/media/gong2.wav" ContentType="audio/x-wav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B19-D177-40F3-821A-0CF49918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21C-9810-4C7C-9B45-7C976781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745-FE14-4FDD-8C45-00F2C665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801-FC66-43A2-AE7E-1400732F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F8EA-1D17-48A2-A1C0-D0078C6A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77BC-897A-4D63-894B-AF1819E7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53F8-D8E3-4703-B58A-B34307D7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8CA8-E4EB-45F1-9482-D6F053BB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BE4B-7CA1-4BEA-8332-6D792B74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F0C0-1BB3-440E-9F1D-CB5865D7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93A7-2250-47CF-87F3-8E927CCD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0FB-4597-4F49-9485-E69A76BF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173E-4AE2-40B0-9476-01E66D19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0AE2-5DFC-4256-B72F-9CCED2A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9798-9305-4764-B2E9-BB908F1B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D743-2CD1-428D-BEA9-D2CC414D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740D-D826-4A84-AD88-FE119856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7A2-69EC-4AED-B225-48A81162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F38-ADEF-4E49-A8A5-DC0FBE75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E70-7A22-46C8-9ADD-8CBACC7F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0C9-3FE4-4E84-9D73-9963ECAE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789-EA0C-4CD9-894D-4A2C549A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415-D8B7-43BC-A82C-1A6E8AA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0B5-AB5D-4AE8-9160-ADE62385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20" name="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A63-5F12-46DD-9194-2D7DB3B7CC2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FEF0-E6DD-43FC-BC3C-71E948566DC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BOING!.WAV"/><Relationship Id="rId4" Type="http://schemas.openxmlformats.org/officeDocument/2006/relationships/audio" Target="../media/BOING!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audio" Target="../media/drumroll.wav"/><Relationship Id="rId12" Type="http://schemas.openxmlformats.org/officeDocument/2006/relationships/audio" Target="../media/applause.wav"/><Relationship Id="rId13" Type="http://schemas.openxmlformats.org/officeDocument/2006/relationships/audio" Target="../media/drumroll.wav"/><Relationship Id="rId14" Type="http://schemas.openxmlformats.org/officeDocument/2006/relationships/audio" Target="../media/applause.wav"/><Relationship Id="rId15" Type="http://schemas.openxmlformats.org/officeDocument/2006/relationships/audio" Target="../media/drumroll.wav"/><Relationship Id="rId16" Type="http://schemas.openxmlformats.org/officeDocument/2006/relationships/audio" Target="../media/applause.wav"/><Relationship Id="rId17" Type="http://schemas.openxmlformats.org/officeDocument/2006/relationships/audio" Target="../media/drumroll.wav"/><Relationship Id="rId18" Type="http://schemas.openxmlformats.org/officeDocument/2006/relationships/audio" Target="../media/applause.wav"/><Relationship Id="rId19" Type="http://schemas.openxmlformats.org/officeDocument/2006/relationships/audio" Target="../media/drumroll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audio" Target="../media/drumroll.wav"/><Relationship Id="rId12" Type="http://schemas.openxmlformats.org/officeDocument/2006/relationships/audio" Target="../media/applause.wav"/><Relationship Id="rId13" Type="http://schemas.openxmlformats.org/officeDocument/2006/relationships/audio" Target="../media/drumroll.wav"/><Relationship Id="rId14" Type="http://schemas.openxmlformats.org/officeDocument/2006/relationships/audio" Target="../media/applause.wav"/><Relationship Id="rId15" Type="http://schemas.openxmlformats.org/officeDocument/2006/relationships/audio" Target="../media/drumroll.wav"/><Relationship Id="rId16" Type="http://schemas.openxmlformats.org/officeDocument/2006/relationships/audio" Target="../media/applause.wav"/><Relationship Id="rId17" Type="http://schemas.openxmlformats.org/officeDocument/2006/relationships/audio" Target="../media/drumroll.wav"/><Relationship Id="rId18" Type="http://schemas.openxmlformats.org/officeDocument/2006/relationships/audio" Target="../media/applause.wav"/><Relationship Id="rId19" Type="http://schemas.openxmlformats.org/officeDocument/2006/relationships/audio" Target="../media/drumroll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audio" Target="../media/gong2.wav"/><Relationship Id="rId10" Type="http://schemas.openxmlformats.org/officeDocument/2006/relationships/audio" Target="../media/BONGO2.WAV"/><Relationship Id="rId11" Type="http://schemas.openxmlformats.org/officeDocument/2006/relationships/audio" Target="../media/gong2.wav"/><Relationship Id="rId12" Type="http://schemas.openxmlformats.org/officeDocument/2006/relationships/audio" Target="../media/BONGO2.WAV"/><Relationship Id="rId13" Type="http://schemas.openxmlformats.org/officeDocument/2006/relationships/audio" Target="../media/gong2.wav"/><Relationship Id="rId14" Type="http://schemas.openxmlformats.org/officeDocument/2006/relationships/audio" Target="../media/BONGO2.WAV"/><Relationship Id="rId15" Type="http://schemas.openxmlformats.org/officeDocument/2006/relationships/audio" Target="../media/gong2.wav"/><Relationship Id="rId16" Type="http://schemas.openxmlformats.org/officeDocument/2006/relationships/audio" Target="../media/BONGO2.WAV"/><Relationship Id="rId1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faculty.valenciacc.edu/ckimball/papers/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valenciacc.ed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valenciacc.edu/aboutus/locations/" TargetMode="External"/><Relationship Id="rId3" Type="http://schemas.openxmlformats.org/officeDocument/2006/relationships/hyperlink" Target="http://www.valenciacc.edu/aboutus/locations/" TargetMode="External"/><Relationship Id="rId4" Type="http://schemas.openxmlformats.org/officeDocument/2006/relationships/hyperlink" Target="http://www.valenciacc.edu/aboutus/locations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aculty.valenciacc.edu/ckimball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ww.uzdessert.uz/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How Internet Addresses Work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y Charles Kimball, EME2040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Narrow"/>
              </a:rPr>
              <a:t>.edu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: The website of a grade school, high school, college or universit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Narrow"/>
              </a:rPr>
              <a:t>.mil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: Websites belonging to the armed force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Narrow"/>
              </a:rPr>
              <a:t>.net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: Websites having to do with computers and the Internet, or anything that doesn’t fit into the other five categorie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Other suffixe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ometimes you will run into websites with suffixes like .cc, .biz, .pro, and .info.  Despite all the hype, they’re not very common yet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.tv is not a suffix, but a country code, for the Pacific island nation of Tuvalu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!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!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ountry Code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ternet addresses are also supposed to have a two-letter code, to tell you what country the website’s server is in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Only one country doesn’t use its country code much, the United States (.us)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Next you will see some common country code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648320" y="457200"/>
            <a:ext cx="38098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uk – United Kingdom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ca – Canad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jp – Japa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mx – Mexico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br – Brazi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5638680" y="304920"/>
            <a:ext cx="2057400" cy="1028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638680" y="1752480"/>
            <a:ext cx="2057400" cy="1028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5715000" y="327672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5715000" y="502920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2209680" y="4952880"/>
            <a:ext cx="202896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fr – Franc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it – Italy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ru – Russi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kr – (South) Kore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au – Australi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715000" y="228600"/>
            <a:ext cx="1981080" cy="1360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715000" y="1981080"/>
            <a:ext cx="1981080" cy="1200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5715000" y="350532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5715000" y="5181480"/>
            <a:ext cx="2057400" cy="1233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1905120" y="5029200"/>
            <a:ext cx="27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And here are some country codes you probably didn’t know: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343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za – South Africa (.sa is Saudi Arabia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es – Spai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de – Germany (“Deutschland,” get it?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ch – Switzerland (as in </a:t>
            </a:r>
            <a:r>
              <a:rPr b="0" i="1" lang="en-US" sz="2800" spc="-1" strike="noStrike">
                <a:solidFill>
                  <a:srgbClr val="eaeaea"/>
                </a:solidFill>
                <a:latin typeface="Arial Narrow"/>
              </a:rPr>
              <a:t>Confoederatio Helvetica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019920" y="114300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19920" y="2362320"/>
            <a:ext cx="1447560" cy="1139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6019920" y="3733920"/>
            <a:ext cx="1523880" cy="91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6019920" y="5029200"/>
            <a:ext cx="144756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on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NGO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on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NGO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on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NGO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on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NGO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Now you are ready to surf the World Wide Web.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6840" y="6095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nd this time you won’t get lost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3244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2847960"/>
            <a:ext cx="75042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nother PowerPoint presentation by Charles Kimball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o view more like it, visit the </a:t>
            </a:r>
            <a:r>
              <a:rPr b="0" lang="en-US" sz="2800" spc="-1" strike="noStrike" u="sng">
                <a:solidFill>
                  <a:srgbClr val="ccffcc"/>
                </a:solidFill>
                <a:uFillTx/>
                <a:latin typeface="Arial Narrow"/>
                <a:hlinkClick r:id="rId3"/>
              </a:rPr>
              <a:t>Technology For Educators HQ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What is a URL?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address of a webpage is called a URL (Uniform Resource Locator)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t consists of the following parts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</a:rPr>
              <a:t>http://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s means “Hypertext Transfer Protocol.”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hen a computer sees this, it knows you are giving it the location of a webpag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  <a:hlinkClick r:id="rId2"/>
              </a:rPr>
              <a:t>http://www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ww” means “World Wide Web.”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s isn’t as common as it used to be; many webpages don’t have it anymor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  <a:hlinkClick r:id="rId2"/>
              </a:rPr>
              <a:t>http://www.valenciacc.edu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part after the “www” is the domain name.  This is the most important part of the addres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yping in this will get you to the main page or homepage of the websit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  <a:hlinkClick r:id="rId3"/>
              </a:rPr>
              <a:t>www.valenciacc.edu/aboutus/locations</a:t>
            </a: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  <a:hlinkClick r:id="rId4"/>
              </a:rPr>
              <a:t>/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ost websites are divided into several imaginary groups called folders.  You can have folders inside other folder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hen going to a specific page on a website, the URL must have a slash mark ( / ) every time you enter a new folder, as with the page abov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cc"/>
                </a:solidFill>
                <a:uFillTx/>
                <a:latin typeface="Arial Narrow"/>
                <a:hlinkClick r:id="rId2"/>
              </a:rPr>
              <a:t>http://faculty.valenciacc.edu/ckimball/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ometimes part of a website is in a completely different place, like on another server.  To show this a new name replaces the “www”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s name is called a subdomain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ow you know how the class website got its address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And Now About Suffixe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ost domain names end in a suffix.  This is the part after the period, like .co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re are six suffixes commonly used on American websites:  .com, .org, .gov, .edu, .mil, and .ne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Other countries have different suffixes.  The British, for example, use .co.uk instead of .com, so Amazon.com becomes Amazon.co.uk in the United Kingdo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ome countries don’t use suffixes at all.  Here’s such a website from Uzbekistan:  </a:t>
            </a:r>
            <a:r>
              <a:rPr b="0" lang="en-US" sz="2800" spc="-1" strike="noStrike" u="sng">
                <a:solidFill>
                  <a:srgbClr val="ccffcc"/>
                </a:solidFill>
                <a:uFillTx/>
                <a:latin typeface="Arial Narrow"/>
                <a:hlinkClick r:id="rId5"/>
              </a:rPr>
              <a:t>http://www.uzdessert.uz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Here’s what American suffixes mean.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Narrow"/>
              </a:rPr>
              <a:t>.com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: A commercial website.  Either the website’s owner, or the owner of the computer it is on, wishes to make money from the websit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Narrow"/>
              </a:rPr>
              <a:t>.org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: A non-profit organization.  This includes charities, religious and political organization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Narrow"/>
              </a:rPr>
              <a:t>.gov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: A government websit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11:48:00Z</dcterms:created>
  <dc:creator>Charles Kimball</dc:creator>
  <dc:description/>
  <dc:language>en-US</dc:language>
  <cp:lastModifiedBy>Charles Kimball</cp:lastModifiedBy>
  <dcterms:modified xsi:type="dcterms:W3CDTF">2006-04-11T01:03:17Z</dcterms:modified>
  <cp:revision>15</cp:revision>
  <dc:subject/>
  <dc:title>How Internet Addresses Work</dc:title>
</cp:coreProperties>
</file>